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66494-AFFA-481B-8B7E-4EA6E94EC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83028-FC60-4A1C-B38C-BEC7DACC6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AEE2A-1B0B-425B-85F9-9B20817C9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1122C-418C-45CA-9798-CC91A41B1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3451A-B341-41EB-8BE8-94A46C903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1954A-BBBC-408D-A137-2C6572EC7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2667A-4804-4C97-BE6C-7945D23C3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59A8A-ECF2-46C4-A682-85C82AEB0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B19BC-5918-483A-A8A1-6FD148BBD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30F3E-C86C-4B43-A625-5C392B46A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1D0C9-3F09-4B85-943B-D50A3F75F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ADCF7-E9B3-467D-A46B-B6130D714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47994-FB99-4B17-952C-2D44485B7F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78960"/>
            <a:ext cx="7772400" cy="198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Collection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285640"/>
            <a:ext cx="6400800" cy="3352680"/>
          </a:xfrm>
          <a:prstGeom prst="rect">
            <a:avLst/>
          </a:prstGeom>
          <a:noFill/>
          <a:ln w="0">
            <a:noFill/>
          </a:ln>
        </p:spPr>
        <p:txBody>
          <a:bodyPr anchor="t">
            <a:noAutofit/>
          </a:bodyPr>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ata collection is step in research process in which researcher collect data from sample selected from defined population of study by applying the tool of research</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uster Sampl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method, firstly clusters are identified and then appropriate number of clusters (groups) are chosen randomly and then all clusters are included in samp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uster:=</a:t>
            </a:r>
            <a:r>
              <a:rPr b="0" lang="en-US" sz="3200" spc="-1" strike="noStrike">
                <a:solidFill>
                  <a:srgbClr val="000000"/>
                </a:solidFill>
                <a:latin typeface="Arial"/>
              </a:rPr>
              <a:t>groups of same characteris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 Sampling</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size should be as large as possi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perimental research, sample of 30 is considered appropri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descriptive research, at least sample size should be 20% of whole popu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 biased and Large sample size is always considered goo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mall size population, whole population can be taken for collection of dat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Collector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or means the person who collect data from sam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ase of research at large scale, data collectors can be involved in data collection proced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ors should be trained and nonbia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structions for data collection should be delivered to all data collectors team by researcher collec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collection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collect data by sel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 by HOD of department is necessa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yourself to respondent and inform him about your objective and title of stud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data in pleasant environ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irection to respondent for filling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confidence to respondent for protection about the provided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respondent to provide data complete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ase of observation, record data on the sp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terview, better to prepare at least audio record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needs for data colle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Too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ampl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ample</a:t>
            </a:r>
            <a:r>
              <a:rPr b="0" lang="en-US" sz="2800" spc="-1" strike="noStrike">
                <a:solidFill>
                  <a:srgbClr val="000000"/>
                </a:solidFill>
                <a:latin typeface="Arial"/>
              </a:rPr>
              <a:t> means a representative group of population characteristics. It is choosed from popul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Population </a:t>
            </a:r>
            <a:r>
              <a:rPr b="0" lang="en-US" sz="2800" spc="-1" strike="noStrike">
                <a:solidFill>
                  <a:srgbClr val="000000"/>
                </a:solidFill>
                <a:latin typeface="Arial"/>
              </a:rPr>
              <a:t>means the entire group about which the study is conducted and on whom results of study are intended to apply after completing the stud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pulation have different sub characteristics along with the main characteristi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 good sample</a:t>
            </a:r>
            <a:r>
              <a:rPr b="0" lang="en-US" sz="2800" spc="-1" strike="noStrike">
                <a:solidFill>
                  <a:srgbClr val="000000"/>
                </a:solidFill>
                <a:latin typeface="Arial"/>
              </a:rPr>
              <a:t> should represent not only the defined basic characteristic but also most of sub characteristics of defined pop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ing procedur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for selection of sample from population is called samp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procedures are divided into two main classe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sampl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probability samp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ability Sampling</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sampling is the procedure of sampling in which each unit in sample get equal chance to be selected for sampl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of probability sampling ar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sampling</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sampling</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ified sampling</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 sampling</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e: In each method of probability sampling, random selection of members from groups is involved. So these types are also considered non biased sampling procedu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 Probability Sampling</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non probability sampling each unit in sample doesn’t get equal chance of selection for sample. Some methods for non probability are</a:t>
            </a:r>
            <a:endParaRPr b="0" lang="en-US" sz="2400" spc="-1" strike="noStrike">
              <a:solidFill>
                <a:srgbClr val="000000"/>
              </a:solidFill>
              <a:latin typeface="Arial"/>
            </a:endParaRPr>
          </a:p>
          <a:p>
            <a:pPr marL="812880" indent="-812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ota sampling</a:t>
            </a:r>
            <a:endParaRPr b="0" lang="en-US" sz="2400" spc="-1" strike="noStrike">
              <a:solidFill>
                <a:srgbClr val="000000"/>
              </a:solidFill>
              <a:latin typeface="Arial"/>
            </a:endParaRPr>
          </a:p>
          <a:p>
            <a:pPr marL="812880" indent="-812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n sampling</a:t>
            </a:r>
            <a:endParaRPr b="0" lang="en-US" sz="2400" spc="-1" strike="noStrike">
              <a:solidFill>
                <a:srgbClr val="000000"/>
              </a:solidFill>
              <a:latin typeface="Arial"/>
            </a:endParaRPr>
          </a:p>
          <a:p>
            <a:pPr marL="812880" indent="-812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nience sampling</a:t>
            </a:r>
            <a:endParaRPr b="0" lang="en-US" sz="2400" spc="-1" strike="noStrike">
              <a:solidFill>
                <a:srgbClr val="000000"/>
              </a:solidFill>
              <a:latin typeface="Arial"/>
            </a:endParaRPr>
          </a:p>
          <a:p>
            <a:pPr marL="812880" indent="-812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idental sampling</a:t>
            </a:r>
            <a:endParaRPr b="0" lang="en-US" sz="2400" spc="-1" strike="noStrike">
              <a:solidFill>
                <a:srgbClr val="000000"/>
              </a:solidFill>
              <a:latin typeface="Arial"/>
            </a:endParaRPr>
          </a:p>
          <a:p>
            <a:pPr marL="812880" indent="-812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ive sampling</a:t>
            </a:r>
            <a:endParaRPr b="0" lang="en-US" sz="2400" spc="-1" strike="noStrike">
              <a:solidFill>
                <a:srgbClr val="000000"/>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se methods doesn’t involve/require random selection and are considered biased sampling procedu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ampling</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Random sampling each member/unit of population </a:t>
            </a:r>
            <a:r>
              <a:rPr b="1" lang="en-US" sz="3200" spc="-1" strike="noStrike">
                <a:solidFill>
                  <a:srgbClr val="000000"/>
                </a:solidFill>
                <a:latin typeface="Arial"/>
              </a:rPr>
              <a:t>get equal and independent chances of selection</a:t>
            </a:r>
            <a:r>
              <a:rPr b="0" lang="en-US" sz="3200" spc="-1" strike="noStrike">
                <a:solidFill>
                  <a:srgbClr val="000000"/>
                </a:solidFill>
                <a:latin typeface="Arial"/>
              </a:rPr>
              <a:t> for sam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considered the best way of sampling procedures because of less chances for err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atic sampling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process involves drawing a sample by taking Kth (Interval) case from list of population. After selecting K , first case from list is randomly selected. Others all are selected as according to 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desired sample size/ total no of popul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50/500=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ified Sampling</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method is adopted when population consists of number of subgroups( stratas). In this method, firstly stratas are identified then cases from each strata are randomly selected for sample in same proportion as this ( strata) is part of the whole popul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a = A group of same characteristic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23:29:27Z</dcterms:created>
  <dc:creator>GBS</dc:creator>
  <dc:description/>
  <dc:language>en-US</dc:language>
  <cp:lastModifiedBy>EDU</cp:lastModifiedBy>
  <dcterms:modified xsi:type="dcterms:W3CDTF">2014-12-17T18:21:52Z</dcterms:modified>
  <cp:revision>133</cp:revision>
  <dc:subject/>
  <dc:title>Data Collection </dc:title>
</cp:coreProperties>
</file>